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6FE-6A59-4866-9CE7-D0F46D13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DCB-990B-4820-82AD-DA34660C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1BA-381A-45EB-BBA8-64C379E1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1F3-3EDC-4BB5-A1A8-9B605A92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A27-030E-4E8F-826E-5FF01532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F43-D25D-4FC3-9672-1F0BED7B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74C-5373-41BB-832F-0964B34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C54-65C4-4DBC-B5CE-509CFEA4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B49-0C8F-4556-80E1-54B852E7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F8E-09CF-436C-91F0-E8B5053B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D7F-1A34-4002-8A18-E9E182B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63E-55AA-4898-91CC-ABFD3A9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A904-F118-4AF0-B5EA-38BEEED1B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名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成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级专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导老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68360" y="162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目编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559880" y="1268280"/>
            <a:ext cx="40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目类别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海市创新训练项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教育研习项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夏基金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致谢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报告大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主要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下一步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存在的问题及处理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指导教师指导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经费使用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讨论及展望（请教答辩指导老师的问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备注：建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汇报总时间控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汇报总时间控制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概述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主要进展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下一步工作计划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存在的问题及处理情况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项目指导教师指导情况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经费使用情况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讨论及展望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319560" y="189000"/>
            <a:ext cx="5645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智慧的创获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品性的陶熔</a:t>
            </a:r>
            <a:r>
              <a:rPr b="1" lang="en-US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2000" spc="-1" strike="noStrike">
                <a:solidFill>
                  <a:srgbClr val="ffffff"/>
                </a:solidFill>
                <a:latin typeface="华文仿宋"/>
                <a:ea typeface="华文仿宋"/>
              </a:rPr>
              <a:t>民族和社会的发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06:11Z</dcterms:created>
  <dc:creator>lh</dc:creator>
  <dc:description/>
  <dc:language>en-US</dc:language>
  <cp:lastModifiedBy>administor</cp:lastModifiedBy>
  <dcterms:modified xsi:type="dcterms:W3CDTF">2015-09-14T14:41:12Z</dcterms:modified>
  <cp:revision>6</cp:revision>
  <dc:subject/>
  <dc:title>幻灯片 1</dc:title>
</cp:coreProperties>
</file>